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BF82-5EDC-4B45-A9C0-F2A5A7938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8951-1BE9-40E8-93DD-E6BFACF6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7616-1908-4C33-9517-FD6283ED2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55A2-457C-40E7-9660-04D18E422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E100-1F9A-47FB-BC77-A81409236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A5F9-2855-4FCB-B589-785BB034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AF0A-A9C8-4697-9E1E-27F9883F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CB59-EED1-46CB-8D60-BA6E4FCB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4221-12FD-4595-AC56-25279A59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C10C-9135-4D2F-9DFA-88ACA8B2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632F-1F33-41B2-858A-3030B78D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A65D-0CD6-4B7B-B7EF-7B5295D7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7CD6-43AB-4C46-BFEE-8B19699E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9A54-CC94-43A7-8BF9-3062B45E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E1C9-7971-4CD9-9CE4-41F0ECEB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6A5F-73E5-4441-8FC3-67283DCDE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9187-D383-4412-A599-2F0FA9A00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7B4A-C1E2-42B5-8612-C605B32C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B7D5-BB85-4613-86C1-B80190C5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87C1-35AD-4B06-AF02-173E6A6D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8655-4EC3-42CD-A525-E532693F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3330-009A-4755-978C-C0AFC937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2ABF-222B-4585-B55F-447D4EBF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AAFE-8E79-4FAE-BC60-218652E5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7D07-38A2-47AB-89D2-4DDE66DAAFB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48F2-087D-4287-A683-10341D992F3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Joy.Fitzgerald@vernonct.org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hslmc2008.wikispaces.com/" TargetMode="External"/><Relationship Id="rId2" Type="http://schemas.openxmlformats.org/officeDocument/2006/relationships/hyperlink" Target="http://go-passport.grolier.com/" TargetMode="External"/><Relationship Id="rId3" Type="http://schemas.openxmlformats.org/officeDocument/2006/relationships/hyperlink" Target="http://go.grolier.com/" TargetMode="External"/><Relationship Id="rId4" Type="http://schemas.openxmlformats.org/officeDocument/2006/relationships/hyperlink" Target="http://infotrac.galegroup.com/itweb/s1461?db=SRC" TargetMode="External"/><Relationship Id="rId5" Type="http://schemas.openxmlformats.org/officeDocument/2006/relationships/hyperlink" Target="http://find.galegroup.com/menu/start?prod=OVRC&amp;userGroupName=s1461" TargetMode="External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hslmc2008.wikispaces.com/" TargetMode="External"/><Relationship Id="rId2" Type="http://schemas.openxmlformats.org/officeDocument/2006/relationships/hyperlink" Target="http://www.iconn.org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ibrary Orientation to Magazines and Online Database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dult Ed - 2010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743400" y="4388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ockville High School Wikispaces Page with links for your use…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ttp://rhslmc2008.wikispaces.com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83944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se the Resources Prepared for you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on TABS to limit or sel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AMPLE: Articles and Databases helps  “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ind databases that have articles, streaming media, and more in the following subjects..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“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on Subjects or Keywor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rch for SPECIFIC if you have 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results are too limited broaden sea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NLINE or In-Person HELP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umped or need help with online resourc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email the RHS Librarian a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Joy.Fitzgerald@vernonct.or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d I will email back with answer if I can help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5292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ist of ICONN Resource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83908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7631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6868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6104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839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7631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eatures of Note to help you alo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FT MARGIN has links to related subjec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ulti-tasking or saving for later (features you can have it read to you through an MP3 Download if you are going to be on a bus or riding in a ca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int articles or Email them to store them electronical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ookmark things: example: Bookmark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py the Bookmark URL and paste it into another document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http://find.galegroup.com/gps/infomark.do?contentSet=IAC-Documents&amp;docType=IAC&amp;type=retrieve&amp;tabID=T003&amp;prodId=IPS&amp;docId=A204808169&amp;userGroupName=s1461&amp;version=1.0&amp;searchType=AdvancedSearchForm&amp;source=gale&amp;infoPage=infoMarkPag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eeded to access Information on the Internet – Sources Availab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te Library Resources - Authorita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cal Library Resources – Authorita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ee Internet Resources (Google or othe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me may be authorita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me are provent to be un-reliable some of the time so must be double checked if us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1048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pecial Online features to help: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xample: Dictionary defini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085760" y="1752480"/>
            <a:ext cx="7220160" cy="49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42840" y="519120"/>
            <a:ext cx="725832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286200" y="972360"/>
            <a:ext cx="841860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ome Primary Sources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uch as Newspapers available through ICONN (** This also has a HISTORIC CONNECTICUT NEWSPAPERS DATABASE which covers 1764-1922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6304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757800" y="834120"/>
            <a:ext cx="83134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arches may yield only Abstracts or Cit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TAIL: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ITATIO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x: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Source Citation Murphy, Kate. "Organic food: should you bother?" Self July 2000: 84+. General OneFile. Web. 25 Jan. 2010. &lt;http://find.galegroup.com/gps/start.do?prodId=IPS&amp;userGroupName=s1461&gt;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TAIL: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BSTRAC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x: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Abstract: A discussion of the possible benefits of eating organic food in the US is presented, with focus on the health benefits due to lack of pesticides and enviromental issues. </a:t>
            </a:r>
            <a:br>
              <a:rPr sz="1800"/>
            </a:b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arch Government Docum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ederal Documents – Electronic or Print versions of publications by the government on all different top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 have some in Print in our VERTICAL FILE, a print set of folders in file cabinet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overnment websites may have information :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opulation Statistics and Public Information are common and available from many websites ending in “.gov”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st of these you can download PDF versions or request a print version be mailed to you for free or a small charg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62080" y="186120"/>
            <a:ext cx="839052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General to specific in Spanis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62120" y="295200"/>
            <a:ext cx="731520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162240" y="190800"/>
            <a:ext cx="5637960" cy="5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ational Archiv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1048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RAP UP  and Ti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 &amp; A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member Library Website for lin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k a Librarian if need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k your teacher for other terminolog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rrific opportunity … great resources… use th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6814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ate Library Resources - Authoritative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910080" y="834120"/>
            <a:ext cx="79326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ocal Library Resources – Authoritative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" y="1362240"/>
            <a:ext cx="876312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86400" y="910080"/>
            <a:ext cx="79326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ocal Library Resources – Card Catalog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10480" cy="51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IBRARY RESOURCE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gazines and Periodicals both in print or online or in libraries or through inter-library lo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gazines found through Paid Databa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ctronic resources  including electronic books, journals, newspapers and mo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deral Documents – Vertical File &amp; Onl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forms – Historical – Ask at des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atabases from State and Loc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839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ere to Start Onlin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brary Home page on RHS Websi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brary WIKI page at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rhslmc2008.wikispaces.com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nline Databases such a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ROLIER :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go-passport.grolier.com/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://go.grolier.com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STUDENT RESOURCE CENTER GOLD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http://find.galegroup.com/srcx/start.do?sc=SRC&amp;userGroupName=s146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Opposing Viewpoints Resource Cent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http://find.galegroup.com/ovrc/start.do?prodId=OVRC&amp;userGroupName=s146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ings to remember: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line Databases are overall more reliable than a search on the inter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line resources are available through RHS Subscriptions and State of Connecticut Subscriptions which can be found by going to the RHS Library WIKISPACES PAGE a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rhslmc2008.wikispaces.com/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CT State Resources at: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www.iconn.or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9:39:36Z</dcterms:created>
  <dc:creator>fitzgeraldj</dc:creator>
  <dc:description/>
  <dc:language>en-US</dc:language>
  <cp:lastModifiedBy>fitzgeraldj</cp:lastModifiedBy>
  <dcterms:modified xsi:type="dcterms:W3CDTF">2010-01-25T20:54:41Z</dcterms:modified>
  <cp:revision>26</cp:revision>
  <dc:subject/>
  <dc:title>Library Orientation</dc:title>
</cp:coreProperties>
</file>